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A8D9-5EED-4BEB-9088-712CBB9A2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ld m&amp;m’s last.. And remind students we’ll be using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C06D-C949-4B52-915F-82C72224253E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over numbers in Spanish before leave this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ert upside down ? in front of qu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AB92-534E-4EEA-AB19-4D4775D051F9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nge formatting so spanish comes first and then english …add symbols &amp; 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52A5-B63F-4AA9-981D-60B734BC05EB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Ale appear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CEA5-4AC8-4FFA-B3EE-2ECE7E7085F1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over numbers in Spanish before leave this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ert upside down ? in front of qu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1200-0A1C-4DDF-93FC-BBB5C5921EE3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E28A-71EB-4E47-AC00-068E54750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BCF8-3F20-4062-9806-85A0D80C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87B1-6C69-44C0-959C-A437E0DA1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FAB4-4858-4095-B736-D1875F3BB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92E0-00DA-4461-95A8-3C4048683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AA52-38AF-47B8-B223-BB9B4F7C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FAA5-4D7B-4504-9D71-EE9E5302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3BFF-3121-47F2-B5B1-685EA241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3F73-46D8-4B75-AFD3-1805E3D6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04D6-AD80-403B-8914-05098505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FD70-4C7C-4D3D-93F5-C96E5EB1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69A3-2FFC-47D0-9D10-9C2255D0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D16A-AA15-453A-BD45-A33DC9BE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8C01-38C6-4C06-B830-A79D7FED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A34F9-82C4-4218-867E-DA844295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EFDE-5BE2-46F9-AC40-129C74760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1A0A-EC59-4E3D-B074-B5FB8DD6A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5914-2EB0-49FE-83B0-9CED2227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D0CA-FD68-448A-B9E7-3DD9C6B6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4685-069C-4211-8B91-6DFEE018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16AD-E585-47D4-9398-5820AE64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337D-BCEC-41F3-A496-2DF74290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1BE0-C490-417F-9476-1538B9AA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FFD0-B2D7-4C86-B237-6248E6FE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4B65-78EC-436D-86B2-270B7DFF3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64BD-FFFF-4E70-84BB-A9940B772832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6SAeztuqf_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Tahoma"/>
              </a:rPr>
              <a:t>Haciendo Comparasiones</a:t>
            </a:r>
            <a:br>
              <a:rPr sz="4400"/>
            </a:br>
            <a:r>
              <a:rPr b="0" lang="es-AR" sz="4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s-AR" sz="3600" spc="-1" strike="noStrike">
                <a:solidFill>
                  <a:srgbClr val="660066"/>
                </a:solidFill>
                <a:latin typeface="Tahoma"/>
              </a:rPr>
              <a:t>Para Nivel Primari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144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40458c"/>
                </a:solidFill>
                <a:latin typeface="Tahoma"/>
              </a:rPr>
              <a:t>Megan Kerstei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40458c"/>
                </a:solidFill>
                <a:latin typeface="Tahoma"/>
              </a:rPr>
              <a:t>Rebecca Singlet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40458c"/>
                </a:solidFill>
                <a:latin typeface="Tahoma"/>
              </a:rPr>
              <a:t>Carrie Hint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40458c"/>
                </a:solidFill>
                <a:latin typeface="Tahoma"/>
              </a:rPr>
              <a:t>Malerie Hugule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ual quieres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how slides of things you’d rather have… 12 cookies or 1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es presento a ALE!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ld to make A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le loves M&amp;Ms and Numb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t’s practice our Numbers with A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le is going to be very helpful to us today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jetiv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arar n</a:t>
            </a:r>
            <a:r>
              <a:rPr b="0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u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eros con s</a:t>
            </a:r>
            <a:r>
              <a:rPr b="0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i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bol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¿Qu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es comparar? (Pregunta a tu amigo.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er, hablar, y escribir s</a:t>
            </a:r>
            <a:r>
              <a:rPr b="0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i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bolos con palabra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alabras de A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ayor que-bigger tha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enor que-smaller tha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gual a-equal 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f89f7"/>
                </a:solidFill>
                <a:uFillTx/>
                <a:latin typeface="Tahoma"/>
                <a:hlinkClick r:id="rId1"/>
              </a:rPr>
              <a:t>Comparison Intro Vide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acticam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380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5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239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TextBox 3"/>
          <p:cNvSpPr/>
          <p:nvPr/>
        </p:nvSpPr>
        <p:spPr>
          <a:xfrm>
            <a:off x="2666880" y="5173560"/>
            <a:ext cx="396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ahoma"/>
              </a:rPr>
              <a:t>es </a:t>
            </a:r>
            <a:r>
              <a:rPr b="0" lang="en-US" sz="4400" spc="-1" strike="noStrike" u="sng">
                <a:solidFill>
                  <a:srgbClr val="40458c"/>
                </a:solidFill>
                <a:uFillTx/>
                <a:latin typeface="Tahoma"/>
              </a:rPr>
              <a:t>mayor</a:t>
            </a:r>
            <a:r>
              <a:rPr b="0" lang="en-US" sz="4400" spc="-1" strike="noStrike">
                <a:solidFill>
                  <a:srgbClr val="40458c"/>
                </a:solidFill>
                <a:latin typeface="Tahoma"/>
              </a:rPr>
              <a:t> que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8" name="TextBox 4"/>
          <p:cNvSpPr/>
          <p:nvPr/>
        </p:nvSpPr>
        <p:spPr>
          <a:xfrm>
            <a:off x="3276720" y="914400"/>
            <a:ext cx="1828800" cy="37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239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TextBox 5"/>
          <p:cNvSpPr/>
          <p:nvPr/>
        </p:nvSpPr>
        <p:spPr>
          <a:xfrm>
            <a:off x="228600" y="61722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ablamos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2133720" y="6172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inco es mayor que tr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&amp;M Ejempl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pasamos los Objetiv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arar n</a:t>
            </a:r>
            <a:r>
              <a:rPr b="0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u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eros con s</a:t>
            </a:r>
            <a:r>
              <a:rPr b="0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i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bol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¿Qu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es comparar? (Pregunta a tu amigo.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er, hablar, y escribir s</a:t>
            </a:r>
            <a:r>
              <a:rPr b="0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i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bolos con palabra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03:26:26Z</dcterms:created>
  <dc:creator>Rebecca</dc:creator>
  <dc:description/>
  <dc:language>en-US</dc:language>
  <cp:lastModifiedBy>Megan PC</cp:lastModifiedBy>
  <dcterms:modified xsi:type="dcterms:W3CDTF">2010-06-23T16:13:15Z</dcterms:modified>
  <cp:revision>13</cp:revision>
  <dc:subject/>
  <dc:title>PowerPoint Presentation</dc:title>
</cp:coreProperties>
</file>